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5582-1A83-48DB-8E67-E12CFE5C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E3F5-2208-4775-8D39-071D23A7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4310-1EF0-418B-ADA2-B7451507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33FA-5305-4DBD-B5AE-FA9619F3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4E15-C0EA-4B6D-8BFF-FB4BEDE7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280A-563A-4A88-A067-3FD216A8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8B0-1F7D-4FFD-973D-F7E50D4D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C8EE-7945-45A9-BB02-859BDC3E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5D06-CA64-44E5-AA73-83D77EAD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19F9-C1DD-4DC2-923A-5909455B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B7D1-CF2B-4390-BEFF-7C3DE43D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F42B-9C7F-4561-AF56-B7FC5D21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3C68-F440-4080-9EC2-D87996C85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25086" r="21600" b="0"/>
          <a:stretch/>
        </p:blipFill>
        <p:spPr>
          <a:xfrm>
            <a:off x="0" y="10666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20395800">
            <a:off x="360" y="1294920"/>
            <a:ext cx="9144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Does your wiki feel like an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3300"/>
                </a:solidFill>
                <a:latin typeface="Elephant"/>
              </a:rPr>
              <a:t>overstuffed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notebook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6400800"/>
            <a:ext cx="193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age courtesy of Flickr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tes from th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Use this wiki only for this project. Remember to use academic (school) writing sty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477120" y="4276800"/>
            <a:ext cx="25430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tes from th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Arial"/>
              </a:rPr>
              <a:t>Do not invite others to edit your wiki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00800" y="4276800"/>
            <a:ext cx="25430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tes from th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Arial"/>
              </a:rPr>
              <a:t>Do NOT delete any inf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Arial"/>
              </a:rPr>
              <a:t>from your class wiki ye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400800" y="4276800"/>
            <a:ext cx="25430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78487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866560" y="658332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aphic Courtesy of flickr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Use this URL for advertising fre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        </a:t>
            </a: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education 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wikispaces.com/site/for/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7695200">
            <a:off x="118800" y="2776320"/>
            <a:ext cx="2657520" cy="1828800"/>
          </a:xfrm>
          <a:custGeom>
            <a:avLst/>
            <a:gdLst>
              <a:gd name="textAreaLeft" fmla="*/ 415080 w 2657520"/>
              <a:gd name="textAreaRight" fmla="*/ 2325600 w 26575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4623200">
            <a:off x="6171840" y="2590920"/>
            <a:ext cx="2743200" cy="1828800"/>
          </a:xfrm>
          <a:custGeom>
            <a:avLst/>
            <a:gdLst>
              <a:gd name="textAreaLeft" fmla="*/ 428400 w 2743200"/>
              <a:gd name="textAreaRight" fmla="*/ 2400480 w 274320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7695200">
            <a:off x="1981080" y="2818800"/>
            <a:ext cx="2590920" cy="182880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4623200">
            <a:off x="4419360" y="2819520"/>
            <a:ext cx="2743200" cy="1828800"/>
          </a:xfrm>
          <a:custGeom>
            <a:avLst/>
            <a:gdLst>
              <a:gd name="textAreaLeft" fmla="*/ 428400 w 2743200"/>
              <a:gd name="textAreaRight" fmla="*/ 2400480 w 274320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12502" r="0" b="3751"/>
          <a:stretch/>
        </p:blipFill>
        <p:spPr>
          <a:xfrm>
            <a:off x="0" y="457200"/>
            <a:ext cx="929628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162920" y="1447920"/>
            <a:ext cx="1981080" cy="990360"/>
          </a:xfrm>
          <a:prstGeom prst="ellipse">
            <a:avLst/>
          </a:prstGeom>
          <a:noFill/>
          <a:ln w="231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2120" y="2362320"/>
            <a:ext cx="4647960" cy="1904760"/>
          </a:xfrm>
          <a:prstGeom prst="ellipse">
            <a:avLst/>
          </a:prstGeom>
          <a:noFill/>
          <a:ln w="228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35880" y="2895480"/>
            <a:ext cx="268164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 usernam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word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gave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12502" r="0" b="12502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05520" y="3200400"/>
            <a:ext cx="3809880" cy="990720"/>
          </a:xfrm>
          <a:prstGeom prst="leftArrow">
            <a:avLst>
              <a:gd name="adj1" fmla="val 50000"/>
              <a:gd name="adj2" fmla="val 96139"/>
            </a:avLst>
          </a:prstGeom>
          <a:solidFill>
            <a:srgbClr val="ff0000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format:  tartan11jtu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4267080"/>
            <a:ext cx="3810240" cy="99072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 your wi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5334120"/>
            <a:ext cx="3809880" cy="990360"/>
          </a:xfrm>
          <a:prstGeom prst="leftArrow">
            <a:avLst>
              <a:gd name="adj1" fmla="val 50000"/>
              <a:gd name="adj2" fmla="val 96174"/>
            </a:avLst>
          </a:prstGeom>
          <a:solidFill>
            <a:srgbClr val="ff0000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dge education use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2813" t="0" r="0" b="625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5266800">
            <a:off x="-351000" y="-334800"/>
            <a:ext cx="2225520" cy="2895480"/>
          </a:xfrm>
          <a:custGeom>
            <a:avLst/>
            <a:gdLst>
              <a:gd name="textAreaLeft" fmla="*/ 347760 w 2225520"/>
              <a:gd name="textAreaRight" fmla="*/ 1947600 w 2225520"/>
              <a:gd name="textAreaTop" fmla="*/ 723960 h 2895480"/>
              <a:gd name="textAreaBottom" fmla="*/ 2171880 h 289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340920" y="1143000"/>
            <a:ext cx="202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266800">
            <a:off x="2885760" y="2880"/>
            <a:ext cx="2225520" cy="3124080"/>
          </a:xfrm>
          <a:custGeom>
            <a:avLst/>
            <a:gdLst>
              <a:gd name="textAreaLeft" fmla="*/ 347760 w 2225520"/>
              <a:gd name="textAreaRight" fmla="*/ 1947600 w 2225520"/>
              <a:gd name="textAreaTop" fmla="*/ 780840 h 3124080"/>
              <a:gd name="textAreaBottom" fmla="*/ 2343240 h 3124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56600" y="1523880"/>
            <a:ext cx="23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 ti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266800">
            <a:off x="5059080" y="960120"/>
            <a:ext cx="2225880" cy="2895840"/>
          </a:xfrm>
          <a:custGeom>
            <a:avLst/>
            <a:gdLst>
              <a:gd name="textAreaLeft" fmla="*/ 347760 w 2225880"/>
              <a:gd name="textAreaRight" fmla="*/ 1947600 w 222588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46920" y="2438280"/>
            <a:ext cx="220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 a link on class pag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ki (at the top) to your new wik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17503" r="0" b="12502"/>
          <a:stretch/>
        </p:blipFill>
        <p:spPr>
          <a:xfrm>
            <a:off x="0" y="1736640"/>
            <a:ext cx="9753480" cy="5121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76720" y="1676520"/>
            <a:ext cx="1981080" cy="1600200"/>
          </a:xfrm>
          <a:prstGeom prst="ellipse">
            <a:avLst/>
          </a:prstGeom>
          <a:noFill/>
          <a:ln w="149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tes from th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Wait until after vacation to start taking notes.  Yes, you can read, but not take not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742080" y="4267080"/>
            <a:ext cx="24019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8:59:59Z</dcterms:created>
  <dc:creator>jtunison</dc:creator>
  <dc:description/>
  <dc:language>en-US</dc:language>
  <cp:lastModifiedBy>Communications Division</cp:lastModifiedBy>
  <dcterms:modified xsi:type="dcterms:W3CDTF">2010-02-12T12:40:33Z</dcterms:modified>
  <cp:revision>6</cp:revision>
  <dc:subject/>
  <dc:title>Slide 1</dc:title>
</cp:coreProperties>
</file>