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23E-A0BE-4C68-A21D-ED880EED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E3C-FA17-4F58-A377-B59B6DBE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14C-25AE-4ED6-898A-21CBC4DA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DCD-6F65-4FE8-B0DB-F91577CA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C79-DD05-449D-A7F6-8D7D7DAE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514-B589-4344-A586-0A783C7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175-6464-4A42-A3EE-5F99C3D4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0E4-53F6-43B6-8A4F-2C66673C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92B-7920-4412-83DB-F25D3B6A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233-5944-4749-9DB0-C5DD4B79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273-86EE-4D22-B529-18441BA7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43F-E7CD-41EA-B013-BC0BF258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8C6C-F97E-4FE3-836A-8FC671BFD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5086" r="21600" b="0"/>
          <a:stretch/>
        </p:blipFill>
        <p:spPr>
          <a:xfrm>
            <a:off x="0" y="10666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0395800">
            <a:off x="360" y="129492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oes your wiki feel like an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Elephant"/>
              </a:rPr>
              <a:t>overstuffed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noteboo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400800"/>
            <a:ext cx="19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 courtesy of Flick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se this wiki only for this project. Remember to use academic (school) writing sty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7712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invite others to edit your wik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delete any inf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from your class wiki y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6560" y="658332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of flick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Use this URL for advertising fre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education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wikispaces.com/site/for/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7695200">
            <a:off x="118800" y="2776320"/>
            <a:ext cx="2657520" cy="1828800"/>
          </a:xfrm>
          <a:custGeom>
            <a:avLst/>
            <a:gdLst>
              <a:gd name="textAreaLeft" fmla="*/ 415080 w 2657520"/>
              <a:gd name="textAreaRight" fmla="*/ 2325600 w 26575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4623200">
            <a:off x="6171840" y="25909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7695200">
            <a:off x="1981080" y="2818800"/>
            <a:ext cx="2590920" cy="182880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623200">
            <a:off x="4419360" y="28195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2502" r="0" b="3751"/>
          <a:stretch/>
        </p:blipFill>
        <p:spPr>
          <a:xfrm>
            <a:off x="0" y="457200"/>
            <a:ext cx="9296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62920" y="1447920"/>
            <a:ext cx="1981080" cy="990360"/>
          </a:xfrm>
          <a:prstGeom prst="ellipse">
            <a:avLst/>
          </a:prstGeom>
          <a:noFill/>
          <a:ln w="231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362320"/>
            <a:ext cx="4647960" cy="1904760"/>
          </a:xfrm>
          <a:prstGeom prst="ellipse">
            <a:avLst/>
          </a:prstGeom>
          <a:noFill/>
          <a:ln w="228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5880" y="2895480"/>
            <a:ext cx="2681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usernam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gav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05520" y="3200400"/>
            <a:ext cx="3809880" cy="990720"/>
          </a:xfrm>
          <a:prstGeom prst="leftArrow">
            <a:avLst>
              <a:gd name="adj1" fmla="val 50000"/>
              <a:gd name="adj2" fmla="val 96139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format:  tartan11jtu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267080"/>
            <a:ext cx="3810240" cy="99072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your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5334120"/>
            <a:ext cx="3809880" cy="990360"/>
          </a:xfrm>
          <a:prstGeom prst="leftArrow">
            <a:avLst>
              <a:gd name="adj1" fmla="val 50000"/>
              <a:gd name="adj2" fmla="val 96174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dge education use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813" t="0" r="0" b="625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5266800">
            <a:off x="-351000" y="-334800"/>
            <a:ext cx="2225520" cy="28954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40920" y="1143000"/>
            <a:ext cx="202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266800">
            <a:off x="2885760" y="2880"/>
            <a:ext cx="2225520" cy="31240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80840 h 3124080"/>
              <a:gd name="textAreaBottom" fmla="*/ 2343240 h 312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6600" y="1523880"/>
            <a:ext cx="23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266800">
            <a:off x="5059080" y="960120"/>
            <a:ext cx="2225880" cy="2895840"/>
          </a:xfrm>
          <a:custGeom>
            <a:avLst/>
            <a:gdLst>
              <a:gd name="textAreaLeft" fmla="*/ 347760 w 2225880"/>
              <a:gd name="textAreaRight" fmla="*/ 1947600 w 222588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6920" y="2438280"/>
            <a:ext cx="220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 link on class pag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ki (at the top) to your new wik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7503" r="0" b="12502"/>
          <a:stretch/>
        </p:blipFill>
        <p:spPr>
          <a:xfrm>
            <a:off x="0" y="1736640"/>
            <a:ext cx="9753480" cy="51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6720" y="1676520"/>
            <a:ext cx="1981080" cy="1600200"/>
          </a:xfrm>
          <a:prstGeom prst="ellipse">
            <a:avLst/>
          </a:prstGeom>
          <a:noFill/>
          <a:ln w="149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Wait until after vacation to start taking notes.  Yes, you can read, but not take not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42080" y="4267080"/>
            <a:ext cx="24019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9:59Z</dcterms:created>
  <dc:creator>jtunison</dc:creator>
  <dc:description/>
  <dc:language>en-US</dc:language>
  <cp:lastModifiedBy>Communications Division</cp:lastModifiedBy>
  <dcterms:modified xsi:type="dcterms:W3CDTF">2010-02-12T12:40:33Z</dcterms:modified>
  <cp:revision>6</cp:revision>
  <dc:subject/>
  <dc:title>Slide 1</dc:title>
</cp:coreProperties>
</file>