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8BB3F-B5FB-4A34-A6B5-DAC4E6EA7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9A322-7026-4661-9D46-6EA331FDF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A389F-84B9-4309-84BC-7E1C204D6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2AD70-CDA2-4B92-8405-248BC5E7E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CA561-3288-48BD-81DE-34FE0B763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DA252-BA76-4F35-8D2A-ACB94F18B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2456B-F941-43D9-93F3-5A2E4FEAD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8F9AD-8F80-4D98-AD20-97A0D1821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EC224-0F54-499D-BDD3-104209BBF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CBF27-63CD-4D96-BFFB-C8F925847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27B7C-DAAE-41BB-B6DF-8B125B0B9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15A92-A802-434A-9FA7-006ABD5C0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621B2-02D5-4BC7-BD36-8DA4A817A0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0" t="25086" r="21600" b="0"/>
          <a:stretch/>
        </p:blipFill>
        <p:spPr>
          <a:xfrm>
            <a:off x="0" y="1066680"/>
            <a:ext cx="9144000" cy="5105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 rot="20395800">
            <a:off x="360" y="1294920"/>
            <a:ext cx="914400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Arial"/>
              </a:rPr>
              <a:t>Does your wiki feel like an</a:t>
            </a: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6000" spc="-1" strike="noStrike">
                <a:solidFill>
                  <a:srgbClr val="ff3300"/>
                </a:solidFill>
                <a:latin typeface="Elephant"/>
              </a:rPr>
              <a:t>overstuffed</a:t>
            </a:r>
            <a:r>
              <a:rPr b="1" lang="en-US" sz="6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5400" spc="-1" strike="noStrike">
                <a:solidFill>
                  <a:srgbClr val="ff3300"/>
                </a:solidFill>
                <a:latin typeface="Arial"/>
              </a:rPr>
              <a:t>notebook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7010280" y="6400800"/>
            <a:ext cx="1933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mage courtesy of Flickr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Notes from the Man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560" y="1142640"/>
            <a:ext cx="83818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     </a:t>
            </a:r>
            <a:r>
              <a:rPr b="1" lang="en-US" sz="4800" spc="-1" strike="noStrike">
                <a:solidFill>
                  <a:srgbClr val="009999"/>
                </a:solidFill>
                <a:latin typeface="Arial"/>
              </a:rPr>
              <a:t>Use this wiki only for this project. Remember to use academic (school) writing style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6477120" y="4276800"/>
            <a:ext cx="2543040" cy="25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Notes from the Man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83818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600ff"/>
                </a:solidFill>
                <a:latin typeface="Arial"/>
              </a:rPr>
              <a:t>Do not invite others to edit your wiki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6400800" y="4276800"/>
            <a:ext cx="2543040" cy="25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Notes from the Man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83818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600ff"/>
                </a:solidFill>
                <a:latin typeface="Arial"/>
              </a:rPr>
              <a:t>Do NOT delete any inf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600ff"/>
                </a:solidFill>
                <a:latin typeface="Arial"/>
              </a:rPr>
              <a:t>from your class wiki yet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6400800" y="4276800"/>
            <a:ext cx="2543040" cy="25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80880" y="0"/>
            <a:ext cx="784872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866560" y="6583320"/>
            <a:ext cx="241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Graphic Courtesy of flickr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914400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 Black"/>
              </a:rPr>
              <a:t>Use this URL for advertising free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 Black"/>
              </a:rPr>
              <a:t>        </a:t>
            </a:r>
            <a:r>
              <a:rPr b="1" lang="en-US" sz="3600" spc="-1" strike="noStrike">
                <a:solidFill>
                  <a:srgbClr val="ff3300"/>
                </a:solidFill>
                <a:latin typeface="Arial Black"/>
              </a:rPr>
              <a:t>education spa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ttp://www.wikispaces.com/site/for/teac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rot="17695200">
            <a:off x="118800" y="2776320"/>
            <a:ext cx="2657520" cy="1828800"/>
          </a:xfrm>
          <a:custGeom>
            <a:avLst/>
            <a:gdLst>
              <a:gd name="textAreaLeft" fmla="*/ 415080 w 2657520"/>
              <a:gd name="textAreaRight" fmla="*/ 2325600 w 2657520"/>
              <a:gd name="textAreaTop" fmla="*/ 457200 h 1828800"/>
              <a:gd name="textAreaBottom" fmla="*/ 1371600 h 1828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rot="14623200">
            <a:off x="6171840" y="2590920"/>
            <a:ext cx="2743200" cy="1828800"/>
          </a:xfrm>
          <a:custGeom>
            <a:avLst/>
            <a:gdLst>
              <a:gd name="textAreaLeft" fmla="*/ 428400 w 2743200"/>
              <a:gd name="textAreaRight" fmla="*/ 2400480 w 2743200"/>
              <a:gd name="textAreaTop" fmla="*/ 457200 h 1828800"/>
              <a:gd name="textAreaBottom" fmla="*/ 1371600 h 1828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rot="17695200">
            <a:off x="1981080" y="2818800"/>
            <a:ext cx="2590920" cy="1828800"/>
          </a:xfrm>
          <a:custGeom>
            <a:avLst/>
            <a:gdLst>
              <a:gd name="textAreaLeft" fmla="*/ 404640 w 2590920"/>
              <a:gd name="textAreaRight" fmla="*/ 2267280 w 2590920"/>
              <a:gd name="textAreaTop" fmla="*/ 457200 h 1828800"/>
              <a:gd name="textAreaBottom" fmla="*/ 1371600 h 1828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rot="14623200">
            <a:off x="4419360" y="2819520"/>
            <a:ext cx="2743200" cy="1828800"/>
          </a:xfrm>
          <a:custGeom>
            <a:avLst/>
            <a:gdLst>
              <a:gd name="textAreaLeft" fmla="*/ 428400 w 2743200"/>
              <a:gd name="textAreaRight" fmla="*/ 2400480 w 2743200"/>
              <a:gd name="textAreaTop" fmla="*/ 457200 h 1828800"/>
              <a:gd name="textAreaBottom" fmla="*/ 1371600 h 1828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rcRect l="0" t="12502" r="0" b="3751"/>
          <a:stretch/>
        </p:blipFill>
        <p:spPr>
          <a:xfrm>
            <a:off x="0" y="457200"/>
            <a:ext cx="9296280" cy="64008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7162920" y="1447920"/>
            <a:ext cx="1981080" cy="990360"/>
          </a:xfrm>
          <a:prstGeom prst="ellipse">
            <a:avLst/>
          </a:prstGeom>
          <a:noFill/>
          <a:ln w="231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762120" y="2362320"/>
            <a:ext cx="4647960" cy="1904760"/>
          </a:xfrm>
          <a:prstGeom prst="ellipse">
            <a:avLst/>
          </a:prstGeom>
          <a:noFill/>
          <a:ln w="228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135880" y="2895480"/>
            <a:ext cx="2681640" cy="916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the username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ssword th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gave yo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rcRect l="0" t="12502" r="0" b="12502"/>
          <a:stretch/>
        </p:blipFill>
        <p:spPr>
          <a:xfrm>
            <a:off x="-304920" y="0"/>
            <a:ext cx="975384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105520" y="3200400"/>
            <a:ext cx="3809880" cy="990720"/>
          </a:xfrm>
          <a:prstGeom prst="leftArrow">
            <a:avLst>
              <a:gd name="adj1" fmla="val 50000"/>
              <a:gd name="adj2" fmla="val 96139"/>
            </a:avLst>
          </a:prstGeom>
          <a:solidFill>
            <a:srgbClr val="ff0000"/>
          </a:solidFill>
          <a:ln w="69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 format:  tartan11jtun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895480" y="4267080"/>
            <a:ext cx="3810240" cy="990720"/>
          </a:xfrm>
          <a:prstGeom prst="leftArrow">
            <a:avLst>
              <a:gd name="adj1" fmla="val 50000"/>
              <a:gd name="adj2" fmla="val 96148"/>
            </a:avLst>
          </a:prstGeom>
          <a:solidFill>
            <a:srgbClr val="ff0000"/>
          </a:solidFill>
          <a:ln w="69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tect your wik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343400" y="5334120"/>
            <a:ext cx="3809880" cy="990360"/>
          </a:xfrm>
          <a:prstGeom prst="leftArrow">
            <a:avLst>
              <a:gd name="adj1" fmla="val 50000"/>
              <a:gd name="adj2" fmla="val 96174"/>
            </a:avLst>
          </a:prstGeom>
          <a:solidFill>
            <a:srgbClr val="ff0000"/>
          </a:solidFill>
          <a:ln w="69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edge education use on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3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" dur="3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rcRect l="2813" t="0" r="0" b="6251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 rot="5266800">
            <a:off x="-351000" y="-334800"/>
            <a:ext cx="2225520" cy="2895480"/>
          </a:xfrm>
          <a:custGeom>
            <a:avLst/>
            <a:gdLst>
              <a:gd name="textAreaLeft" fmla="*/ 347760 w 2225520"/>
              <a:gd name="textAreaRight" fmla="*/ 1947600 w 2225520"/>
              <a:gd name="textAreaTop" fmla="*/ 723960 h 2895480"/>
              <a:gd name="textAreaBottom" fmla="*/ 2171880 h 2895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-340920" y="1143000"/>
            <a:ext cx="2022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e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rot="5266800">
            <a:off x="2885760" y="2880"/>
            <a:ext cx="2225520" cy="3124080"/>
          </a:xfrm>
          <a:custGeom>
            <a:avLst/>
            <a:gdLst>
              <a:gd name="textAreaLeft" fmla="*/ 347760 w 2225520"/>
              <a:gd name="textAreaRight" fmla="*/ 1947600 w 2225520"/>
              <a:gd name="textAreaTop" fmla="*/ 780840 h 3124080"/>
              <a:gd name="textAreaBottom" fmla="*/ 2343240 h 3124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856600" y="1523880"/>
            <a:ext cx="237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  A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ge tit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rot="5266800">
            <a:off x="5059080" y="960120"/>
            <a:ext cx="2225880" cy="2895840"/>
          </a:xfrm>
          <a:custGeom>
            <a:avLst/>
            <a:gdLst>
              <a:gd name="textAreaLeft" fmla="*/ 347760 w 2225880"/>
              <a:gd name="textAreaRight" fmla="*/ 1947600 w 2225880"/>
              <a:gd name="textAreaTop" fmla="*/ 723960 h 2895840"/>
              <a:gd name="textAreaBottom" fmla="*/ 2171880 h 28958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146920" y="2438280"/>
            <a:ext cx="2201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E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" dur="3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dd a link on class page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iki (at the top) to your new wiki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rcRect l="0" t="17503" r="0" b="12502"/>
          <a:stretch/>
        </p:blipFill>
        <p:spPr>
          <a:xfrm>
            <a:off x="0" y="1736640"/>
            <a:ext cx="9753480" cy="512136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3276720" y="1676520"/>
            <a:ext cx="1981080" cy="1600200"/>
          </a:xfrm>
          <a:prstGeom prst="ellipse">
            <a:avLst/>
          </a:prstGeom>
          <a:noFill/>
          <a:ln w="149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Notes from the Man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83818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1349"/>
              </a:spcBef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Arial"/>
              </a:rPr>
              <a:t>Wait until after vacation to start taking notes.  Yes, you can read, but not take notes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6742080" y="4267080"/>
            <a:ext cx="240192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9T18:59:59Z</dcterms:created>
  <dc:creator>jtunison</dc:creator>
  <dc:description/>
  <dc:language>en-US</dc:language>
  <cp:lastModifiedBy>Communications Division</cp:lastModifiedBy>
  <dcterms:modified xsi:type="dcterms:W3CDTF">2010-02-12T12:40:33Z</dcterms:modified>
  <cp:revision>6</cp:revision>
  <dc:subject/>
  <dc:title>Slide 1</dc:title>
</cp:coreProperties>
</file>