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136-EA0E-429D-89EB-D9A22AB7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9EE-0014-44B1-BAB2-14D57095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39B-0807-43E8-AD38-392E2042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CB2-4E0E-41EB-B0C7-A54ED9FB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5BA-2C17-49FB-9154-168FBE50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10F-D7F1-4B4D-979E-D350243B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174-D8D4-4701-9442-0E62F0CB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794-1B39-4160-9D68-EC8098EB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1B0-66E6-4C6F-BB70-A76F1399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964-D510-4244-9C6E-FDC8573F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354-6701-4B21-9962-1BCAA093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49F-6DFD-49EE-9D4E-2F14545B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E890-540D-4A2D-B3CB-4BA13B6A5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ois.domaintools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ing A Works Consulted to Track Your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TENTIA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753320" cy="77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8880" y="617220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 Think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Daily News writer Patrick Huguenin takes a look some of the cars from the 2008 New York International Auto Show. First up: BEST MOVIE HERO CAR: Audi R8 V12 TDI Le Mans concept: The Audi R8 has already earned its spot in pop culture. Courteney Cox uses one to zip around Tinseltown in FX's tabloid drama &quot;Dirt.&quot; She'd be lucky to get her hands on a Le Mans concept version, which upgrades the engine to a 12-cylinder that runs on diesel. It's got a paparazzi-chasing top speed of just under 200 mph, but it's also fuel efficient. We know James Bond loves his Aston Martins, but wouldn't fuel efficiency and lower emissions give a good guy more room to be bad?"/>
          <p:cNvPicPr/>
          <p:nvPr/>
        </p:nvPicPr>
        <p:blipFill>
          <a:blip r:embed="rId1"/>
          <a:stretch/>
        </p:blipFill>
        <p:spPr>
          <a:xfrm>
            <a:off x="3809880" y="3914640"/>
            <a:ext cx="5334120" cy="294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36360"/>
            <a:ext cx="893124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uying a car?   Selecting a web 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Black"/>
              </a:rPr>
              <a:t>Is it cred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Is it accu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Is it 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f you don’t know, try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domain search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hois.domaintool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website meets the CARS te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n create a Works Consulted list us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1:  Log into Bib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57920" cy="54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1828800"/>
            <a:ext cx="2514600" cy="1143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2:  Add your http:/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376" r="3750" b="0"/>
          <a:stretch/>
        </p:blipFill>
        <p:spPr>
          <a:xfrm>
            <a:off x="609480" y="965160"/>
            <a:ext cx="7821720" cy="58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838080"/>
            <a:ext cx="1219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914400"/>
            <a:ext cx="2438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3:  Click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37506" r="3750" b="9376"/>
          <a:stretch/>
        </p:blipFill>
        <p:spPr>
          <a:xfrm>
            <a:off x="380880" y="1523880"/>
            <a:ext cx="11430000" cy="504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4647960" y="914400"/>
            <a:ext cx="228600" cy="4800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8120"/>
            <a:ext cx="2209680" cy="26668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05160" y="3124080"/>
            <a:ext cx="1904760" cy="259092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ep 4:  Add reason fo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hoosing this POTENTIAL source (2-3 sentences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37506" r="0" b="28129"/>
          <a:stretch/>
        </p:blipFill>
        <p:spPr>
          <a:xfrm>
            <a:off x="0" y="3200400"/>
            <a:ext cx="121921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3505320"/>
            <a:ext cx="6324480" cy="2209680"/>
          </a:xfrm>
          <a:prstGeom prst="ellipse">
            <a:avLst/>
          </a:prstGeom>
          <a:noFill/>
          <a:ln w="146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33:03Z</dcterms:created>
  <dc:creator>Communications Division</dc:creator>
  <dc:description/>
  <dc:language>en-US</dc:language>
  <cp:lastModifiedBy>Communications Division</cp:lastModifiedBy>
  <dcterms:modified xsi:type="dcterms:W3CDTF">2010-02-10T12:40:05Z</dcterms:modified>
  <cp:revision>4</cp:revision>
  <dc:subject/>
  <dc:title>Slide 1</dc:title>
</cp:coreProperties>
</file>