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144-8F09-45F1-BD2B-5A97FCF8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2DA-983E-4B3F-AD5E-0FC1D9CE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8B0-7688-4C21-9B97-DDAA2F4C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474-304B-4AFD-A3D5-2FD9F219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979-AEDF-4540-B081-20701FE2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72C3-DE8D-4786-BE5B-2B1CCA11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3673-E531-4973-8ECD-BFA1BF8C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BB12-7541-4CFA-8643-38AD9D42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E9FB-8847-4BCC-9C52-17F5261B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56F-5E5D-4528-BA7B-44F7E36C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999B-6E52-4359-824A-55709395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3EC4-944C-4F69-8426-C2FF93E9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6AEE-FE11-45F3-99C6-1DE321AA8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hois.domaintools.com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veloping A Works Consulted to Track Your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OTENTIA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90680" y="1295280"/>
            <a:ext cx="7753320" cy="7753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238880" y="6172200"/>
            <a:ext cx="150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aphic Courte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f Think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Daily News writer Patrick Huguenin takes a look some of the cars from the 2008 New York International Auto Show. First up: BEST MOVIE HERO CAR: Audi R8 V12 TDI Le Mans concept: The Audi R8 has already earned its spot in pop culture. Courteney Cox uses one to zip around Tinseltown in FX's tabloid drama &quot;Dirt.&quot; She'd be lucky to get her hands on a Le Mans concept version, which upgrades the engine to a 12-cylinder that runs on diesel. It's got a paparazzi-chasing top speed of just under 200 mph, but it's also fuel efficient. We know James Bond loves his Aston Martins, but wouldn't fuel efficiency and lower emissions give a good guy more room to be bad?"/>
          <p:cNvPicPr/>
          <p:nvPr/>
        </p:nvPicPr>
        <p:blipFill>
          <a:blip r:embed="rId1"/>
          <a:stretch/>
        </p:blipFill>
        <p:spPr>
          <a:xfrm>
            <a:off x="3809880" y="3914640"/>
            <a:ext cx="5334120" cy="2943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36360"/>
            <a:ext cx="893124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Buying a car?   Selecting a web s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 Black"/>
              </a:rPr>
              <a:t>Is it cred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Arial Black"/>
              </a:rPr>
              <a:t>Is it accu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Is it reli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If you don’t know, try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domain search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hois.domaintool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your website meets the CARS tes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n create a Works Consulted list using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5792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1:  Log into Bib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57920" cy="541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72200" y="1828800"/>
            <a:ext cx="2514600" cy="1143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2:  Add your http:/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9376" r="3750" b="0"/>
          <a:stretch/>
        </p:blipFill>
        <p:spPr>
          <a:xfrm>
            <a:off x="609480" y="965160"/>
            <a:ext cx="7821720" cy="589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838080"/>
            <a:ext cx="12193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914400"/>
            <a:ext cx="2438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3:  Click 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37506" r="3750" b="9376"/>
          <a:stretch/>
        </p:blipFill>
        <p:spPr>
          <a:xfrm>
            <a:off x="380880" y="1523880"/>
            <a:ext cx="11430000" cy="5048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4647960" y="914400"/>
            <a:ext cx="228600" cy="480060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3048120"/>
            <a:ext cx="2209680" cy="26668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105160" y="3124080"/>
            <a:ext cx="1904760" cy="259092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4:  Add reason fo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hoosing this POTENTIAL source (2-3 sentences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37506" r="0" b="28129"/>
          <a:stretch/>
        </p:blipFill>
        <p:spPr>
          <a:xfrm>
            <a:off x="0" y="3200400"/>
            <a:ext cx="12192120" cy="335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3505320"/>
            <a:ext cx="6324480" cy="2209680"/>
          </a:xfrm>
          <a:prstGeom prst="ellipse">
            <a:avLst/>
          </a:prstGeom>
          <a:noFill/>
          <a:ln w="146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2:33:03Z</dcterms:created>
  <dc:creator>Communications Division</dc:creator>
  <dc:description/>
  <dc:language>en-US</dc:language>
  <cp:lastModifiedBy>Communications Division</cp:lastModifiedBy>
  <dcterms:modified xsi:type="dcterms:W3CDTF">2010-02-10T12:40:05Z</dcterms:modified>
  <cp:revision>4</cp:revision>
  <dc:subject/>
  <dc:title>Slide 1</dc:title>
</cp:coreProperties>
</file>