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451-7D1F-4AE1-94A0-FE3734F1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823-1DC3-4D65-A49A-C803948A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0B-6BA4-453E-BDDC-A01FC2C8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AE4-53FE-4DBB-B276-6E325773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919-C45C-47AB-AED0-65F10275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F34-318C-4FB0-80C3-5819570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C59-2012-488A-80ED-54DF215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CA4-8198-4DAB-A1AE-EA95205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E5B-DD61-49BC-920D-4E0D991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870-F86E-4CAA-8AB7-B4E9ABE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E69-BCE2-441E-8B19-15E825C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4F3-4FDC-4DD7-870F-A8A452D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F5B-8EBE-4376-B2F9-9B268F03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49320"/>
            <a:ext cx="899172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0"/>
            <a:ext cx="883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30240" y="0"/>
            <a:ext cx="883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38088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2502" r="9376" b="12502"/>
          <a:stretch/>
        </p:blipFill>
        <p:spPr>
          <a:xfrm>
            <a:off x="0" y="68580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2502" r="8439" b="12502"/>
          <a:stretch/>
        </p:blipFill>
        <p:spPr>
          <a:xfrm>
            <a:off x="212760" y="533520"/>
            <a:ext cx="893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56:59Z</dcterms:created>
  <dc:creator>Communications Division</dc:creator>
  <dc:description/>
  <dc:language>en-US</dc:language>
  <cp:lastModifiedBy>Communications Division</cp:lastModifiedBy>
  <dcterms:modified xsi:type="dcterms:W3CDTF">2010-04-14T13:01:48Z</dcterms:modified>
  <cp:revision>2</cp:revision>
  <dc:subject/>
  <dc:title>Slide 1</dc:title>
</cp:coreProperties>
</file>