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CB4-C7A6-4FE1-A0BF-36F77EAD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192-0401-4B52-9E5B-A06C1D74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493-D29C-4359-8CCB-23A8C42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5C8-ECBD-4E4B-822F-E09A5E4A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574-80A6-46A0-A24D-2BEDA85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A4B-EBD9-465D-8C1C-73479FBE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009-6BB5-43D5-AEC4-8D7C58EB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EC5-BA9D-484D-BBF2-4CAA1FB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82C-A1A4-4FD6-BC7D-5D9319A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54D-6CE4-4FB8-AF9A-B23B623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FC5-66C2-4BBE-A155-DF11810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D47-983F-4C35-8D8A-C597779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6150-5ABA-43DC-A2A1-49F87FC3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49320"/>
            <a:ext cx="8991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0"/>
            <a:ext cx="883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30240" y="0"/>
            <a:ext cx="883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38088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6858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53352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56:59Z</dcterms:created>
  <dc:creator>Communications Division</dc:creator>
  <dc:description/>
  <dc:language>en-US</dc:language>
  <cp:lastModifiedBy>Communications Division</cp:lastModifiedBy>
  <dcterms:modified xsi:type="dcterms:W3CDTF">2010-04-14T13:01:48Z</dcterms:modified>
  <cp:revision>2</cp:revision>
  <dc:subject/>
  <dc:title>Slide 1</dc:title>
</cp:coreProperties>
</file>