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FFF-D1B6-41EB-B16B-8B58477E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46BB-AAF1-4D4E-B79E-F09F6F5E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377F-C14E-426F-90BE-83B51B87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A3C3-13A9-428D-9CAF-5783DF6F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A65E-9500-4F65-A20B-1C2D95C2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F150-C9C3-4EF1-844D-EFE3E88D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CB0B-159E-4A46-BB50-1695E773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44AE-3294-40FB-BAE7-ACFF3ADD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8F1-4F15-4C39-ACC0-BB01E863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D1EC-74DF-4AB9-83E3-A677B246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5F35-BD64-4E75-A372-CFB54D09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FFD7-6430-4788-A9F0-9D5C6D61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804F-48B2-4192-B848-879332DD9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12502" r="8439" b="12502"/>
          <a:stretch/>
        </p:blipFill>
        <p:spPr>
          <a:xfrm>
            <a:off x="0" y="49320"/>
            <a:ext cx="899172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12502" r="9376" b="12502"/>
          <a:stretch/>
        </p:blipFill>
        <p:spPr>
          <a:xfrm>
            <a:off x="0" y="0"/>
            <a:ext cx="88390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12502" r="9376" b="12502"/>
          <a:stretch/>
        </p:blipFill>
        <p:spPr>
          <a:xfrm>
            <a:off x="30240" y="0"/>
            <a:ext cx="8839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12502" r="8439" b="12502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2502" r="8439" b="12502"/>
          <a:stretch/>
        </p:blipFill>
        <p:spPr>
          <a:xfrm>
            <a:off x="212760" y="380880"/>
            <a:ext cx="893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12502" r="9376" b="12502"/>
          <a:stretch/>
        </p:blipFill>
        <p:spPr>
          <a:xfrm>
            <a:off x="0" y="685800"/>
            <a:ext cx="8839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12502" r="8439" b="12502"/>
          <a:stretch/>
        </p:blipFill>
        <p:spPr>
          <a:xfrm>
            <a:off x="212760" y="533520"/>
            <a:ext cx="893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6:56:59Z</dcterms:created>
  <dc:creator>Communications Division</dc:creator>
  <dc:description/>
  <dc:language>en-US</dc:language>
  <cp:lastModifiedBy>Communications Division</cp:lastModifiedBy>
  <dcterms:modified xsi:type="dcterms:W3CDTF">2010-04-14T13:01:48Z</dcterms:modified>
  <cp:revision>2</cp:revision>
  <dc:subject/>
  <dc:title>Slide 1</dc:title>
</cp:coreProperties>
</file>