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474-7201-4004-8189-A21760CE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8E4-3824-4723-94B7-9390B765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2562-DB97-4942-9512-6AB765F6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1DF-D38A-4139-9382-982930BA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F1DB-B17B-4256-93AF-7E6CDB1E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9FD-2C52-4786-8EE0-DF9EFBC1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7B6-12DB-4C2F-B1ED-06AB1D3C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417-6E5A-41AD-8F35-14F8EF0D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9BB-39FF-46AE-A9DC-5B4D5C5B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4593-7797-42A8-ADC3-D1850F97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5E9-8AFB-4A7F-B4F9-FC87842D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2184-E8F2-4640-BC30-BBE77615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5939-C25B-4167-8355-6F5C41FD7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12502" r="8439" b="12502"/>
          <a:stretch/>
        </p:blipFill>
        <p:spPr>
          <a:xfrm>
            <a:off x="0" y="49320"/>
            <a:ext cx="899172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12502" r="9376" b="12502"/>
          <a:stretch/>
        </p:blipFill>
        <p:spPr>
          <a:xfrm>
            <a:off x="0" y="0"/>
            <a:ext cx="8839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12502" r="9376" b="12502"/>
          <a:stretch/>
        </p:blipFill>
        <p:spPr>
          <a:xfrm>
            <a:off x="30240" y="0"/>
            <a:ext cx="8839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12502" r="8439" b="12502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2502" r="8439" b="12502"/>
          <a:stretch/>
        </p:blipFill>
        <p:spPr>
          <a:xfrm>
            <a:off x="212760" y="380880"/>
            <a:ext cx="893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12502" r="9376" b="12502"/>
          <a:stretch/>
        </p:blipFill>
        <p:spPr>
          <a:xfrm>
            <a:off x="0" y="685800"/>
            <a:ext cx="8839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12502" r="8439" b="12502"/>
          <a:stretch/>
        </p:blipFill>
        <p:spPr>
          <a:xfrm>
            <a:off x="212760" y="533520"/>
            <a:ext cx="893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6:56:59Z</dcterms:created>
  <dc:creator>Communications Division</dc:creator>
  <dc:description/>
  <dc:language>en-US</dc:language>
  <cp:lastModifiedBy>Communications Division</cp:lastModifiedBy>
  <dcterms:modified xsi:type="dcterms:W3CDTF">2010-04-14T13:01:48Z</dcterms:modified>
  <cp:revision>2</cp:revision>
  <dc:subject/>
  <dc:title>Slide 1</dc:title>
</cp:coreProperties>
</file>