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4FD5-7BA3-4A6E-A14C-65ABD82E8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9399-BDAF-496A-B4AA-C00A47CE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B3EC-4BB8-4982-BE29-37005A90F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24A4-9A9D-477E-8F50-2208F48C1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C339-3C9B-4F30-B1EA-872575F7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7009-D80F-458D-89C7-D24FC03D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9515-7A6D-4A01-AF63-E253A9D9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99A7-BBCB-47AC-BE17-E2E1BF4A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6BAE-A007-4B86-A874-D6E6D772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A365-EEF7-44F8-B1C4-5E6C4558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71A0-4331-40F6-A616-BD7AF0A2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7A6D-5A79-49F7-A28D-E31C4F70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135B-ACCE-47A2-A9C6-387F326F8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hois.domaintools.com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veloping A Works Consulted to Track Your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OTENTIAL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90680" y="1295280"/>
            <a:ext cx="7753320" cy="7753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238880" y="6172200"/>
            <a:ext cx="150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raphic Courtes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f Think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Daily News writer Patrick Huguenin takes a look some of the cars from the 2008 New York International Auto Show. First up: BEST MOVIE HERO CAR: Audi R8 V12 TDI Le Mans concept: The Audi R8 has already earned its spot in pop culture. Courteney Cox uses one to zip around Tinseltown in FX's tabloid drama &quot;Dirt.&quot; She'd be lucky to get her hands on a Le Mans concept version, which upgrades the engine to a 12-cylinder that runs on diesel. It's got a paparazzi-chasing top speed of just under 200 mph, but it's also fuel efficient. We know James Bond loves his Aston Martins, but wouldn't fuel efficiency and lower emissions give a good guy more room to be bad?"/>
          <p:cNvPicPr/>
          <p:nvPr/>
        </p:nvPicPr>
        <p:blipFill>
          <a:blip r:embed="rId1"/>
          <a:stretch/>
        </p:blipFill>
        <p:spPr>
          <a:xfrm>
            <a:off x="3809880" y="3914640"/>
            <a:ext cx="5334120" cy="2943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36360"/>
            <a:ext cx="8931240" cy="38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Buying a car?   Selecting a web s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Arial Black"/>
              </a:rPr>
              <a:t>Is it credi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660066"/>
                </a:solidFill>
                <a:latin typeface="Arial Black"/>
              </a:rPr>
              <a:t>Is it accu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Arial Black"/>
              </a:rPr>
              <a:t>Is it reli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If you don’t know, try a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 Black"/>
                <a:hlinkClick r:id="rId2"/>
              </a:rPr>
              <a:t>domain search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whois.domaintool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3809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f your website meets the CARS test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n create a Works Consulted list using 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5792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tep 1:  Log into Bib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57920" cy="5416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72200" y="1828800"/>
            <a:ext cx="2514600" cy="114300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tep 2:  Add your http:/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9376" r="3750" b="0"/>
          <a:stretch/>
        </p:blipFill>
        <p:spPr>
          <a:xfrm>
            <a:off x="609480" y="965160"/>
            <a:ext cx="7821720" cy="5892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81080" y="838080"/>
            <a:ext cx="12193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914400"/>
            <a:ext cx="2438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tep 3:  Click 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37506" r="3750" b="9376"/>
          <a:stretch/>
        </p:blipFill>
        <p:spPr>
          <a:xfrm>
            <a:off x="380880" y="1523880"/>
            <a:ext cx="11430000" cy="5048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H="1">
            <a:off x="4647960" y="914400"/>
            <a:ext cx="228600" cy="480060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3048120"/>
            <a:ext cx="2209680" cy="26668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105160" y="3124080"/>
            <a:ext cx="1904760" cy="259092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tep 4:  Add reason for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hoosing this POTENTIAL source (2-3 sentences)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37506" r="0" b="28129"/>
          <a:stretch/>
        </p:blipFill>
        <p:spPr>
          <a:xfrm>
            <a:off x="0" y="3200400"/>
            <a:ext cx="12192120" cy="3352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43000" y="3505320"/>
            <a:ext cx="6324480" cy="2209680"/>
          </a:xfrm>
          <a:prstGeom prst="ellipse">
            <a:avLst/>
          </a:prstGeom>
          <a:noFill/>
          <a:ln w="146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2:33:03Z</dcterms:created>
  <dc:creator>Communications Division</dc:creator>
  <dc:description/>
  <dc:language>en-US</dc:language>
  <cp:lastModifiedBy>Communications Division</cp:lastModifiedBy>
  <dcterms:modified xsi:type="dcterms:W3CDTF">2010-02-10T12:40:05Z</dcterms:modified>
  <cp:revision>4</cp:revision>
  <dc:subject/>
  <dc:title>Slide 1</dc:title>
</cp:coreProperties>
</file>